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E599-71B8-42E9-BF05-674BF9AC1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8C03-6D80-4B1E-8C27-1D520F5BD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72B7-9FF1-44E5-B69E-BCB53F72C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6554-A2AA-449F-9A58-A183108B5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EFA49-43D8-4B27-8151-683D9E2A7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8653B-9D0B-4732-81A0-3E964D348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EBCC8-6C45-4FBC-AB48-593164139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43894-CBB6-4B7F-8A33-55A322F56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5CD4E-EEC7-4DA0-8F78-7ADD90FC8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804C0-D682-4267-802A-29263BD9E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6C628-5CCC-473A-8E66-4F32F208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9CAA-FD64-4AF8-B569-91FAA5A45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8E446-82EC-4CB7-B3B5-797ACFA6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19A9E-DB6A-4FEA-A7B0-B4ECA33B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9E7DE-D887-4075-92AE-50A65BCF7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64687-4C85-427F-AEFD-BD339B93B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1FF3F-CE51-4C5C-8F8D-04BFC17BC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DB11-5068-4E53-B917-B97873624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0678-7842-428B-A9F6-2F0283914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B124-C45B-4C7E-AD10-F53A8149E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AE56-6388-429B-A4E5-72D25B10A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9419-E898-488B-B0F3-BBEC311A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C216-5E68-4810-ABF5-03C0C4CC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5FE1-F41B-4AB8-ADD8-10A7BC0B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0DB31-B3C4-4A16-AA62-3854ED8794A2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847EE-24C2-4EBB-9AF6-DD332506EEF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年级  高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学科  英语   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2BU19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A freedom fighter  (B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播放时间   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月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28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日 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(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星期三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)  9:50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讲课教师   方芳</a:t>
            </a:r>
            <a:r>
              <a:rPr b="1" lang="zh-CN" sz="3600" spc="-1" strike="noStrike">
                <a:solidFill>
                  <a:srgbClr val="ffff66"/>
                </a:solidFill>
                <a:latin typeface="宋体"/>
              </a:rPr>
              <a:t>  北京四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rosa parks"/>
          <p:cNvPicPr/>
          <p:nvPr/>
        </p:nvPicPr>
        <p:blipFill>
          <a:blip r:embed="rId1"/>
          <a:stretch/>
        </p:blipFill>
        <p:spPr>
          <a:xfrm>
            <a:off x="5181480" y="1219320"/>
            <a:ext cx="3238560" cy="38862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772400" cy="5689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"To this day I believe w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re here on the plane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arth to live, grow u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nd do what we can 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ake this world a bet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lace for all people 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njoy freedom."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                        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---Mrs. Rosa Park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52120" y="838080"/>
            <a:ext cx="5791320" cy="79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Basic comprehens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600200" y="1905120"/>
            <a:ext cx="6526080" cy="411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1. What did Rosa Parks do on December 1, 1955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. What did the police do to the woma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955440"/>
            <a:ext cx="7772400" cy="79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Basic comprehens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. Who did the king meet in 196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nd what did he ask fo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 What was the result of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truggl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066680" y="4038120"/>
            <a:ext cx="7353360" cy="1079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47000"/>
          </a:bodyPr>
          <a:p>
            <a:pPr marL="160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Black people on the bus to try to e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160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he segregation.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种族隔离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Th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160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protest was brutally treated at man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160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stops along the wa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286000" y="838080"/>
            <a:ext cx="472428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181480" y="1219320"/>
            <a:ext cx="2997360" cy="46116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219320" y="685800"/>
            <a:ext cx="4751280" cy="5400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About 250,000 peo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Attended the March 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Washington, D.C., urg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support for civil-righ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legislation(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立法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). Th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Event was highlighted b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King's “I have a dream"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speech in front of th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Lincoln Memorial.</a:t>
            </a:r>
            <a:r>
              <a:rPr b="0" lang="zh-CN" sz="2400" spc="-1" strike="noStrike">
                <a:solidFill>
                  <a:srgbClr val="ecf53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057400" y="914400"/>
            <a:ext cx="5410080" cy="79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Basic comprehens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752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1. What did Rosa Parks do on December 1, 1955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. What did the police do to the woma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828800" y="990360"/>
            <a:ext cx="5562720" cy="79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Basic comprehension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752120" y="2057400"/>
            <a:ext cx="599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. Who did the King meet in 1963 and what did he ask fo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 What was the result of the struggl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Useful words &amp;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828800" y="1752120"/>
            <a:ext cx="6618240" cy="35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refuse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v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(Line 2, Para. 1)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原句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She refused to move and w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aken away by the polic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371600" y="609480"/>
            <a:ext cx="7201080" cy="49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ahoma"/>
              </a:rPr>
              <a:t>refuse</a:t>
            </a: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v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not to take what is offered; not to do what one is asked to do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拒收；拒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1. He refused my offer to help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2. She refused to take the mone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ahoma"/>
              </a:rPr>
              <a:t>refusal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 </a:t>
            </a: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n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752480" y="731520"/>
            <a:ext cx="6097680" cy="52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ahoma"/>
              </a:rPr>
              <a:t>form</a:t>
            </a:r>
            <a:r>
              <a:rPr b="1" lang="zh-CN" sz="36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vt.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cf53d"/>
                </a:solidFill>
                <a:latin typeface="Times New Roman"/>
              </a:rPr>
              <a:t>(Line 3, Para. 1) </a:t>
            </a: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原句</a:t>
            </a: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:</a:t>
            </a:r>
            <a:r>
              <a:rPr b="0" lang="zh-CN" sz="3200" spc="-1" strike="noStrike">
                <a:solidFill>
                  <a:srgbClr val="ecf53d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A group was formed to demand that the bus company should change its unfair practices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"/>
              </a:rPr>
              <a:t>Unit 19 A freedom fighter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"/>
              </a:rPr>
              <a:t> </a:t>
            </a:r>
            <a:br>
              <a:rPr sz="36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"/>
              </a:rPr>
              <a:t>(continued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547640" y="5300640"/>
            <a:ext cx="6872400" cy="155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MLK" descr="Dr. Martin Luther King Jr."/>
          <p:cNvPicPr/>
          <p:nvPr/>
        </p:nvPicPr>
        <p:blipFill>
          <a:blip r:embed="rId1"/>
          <a:stretch/>
        </p:blipFill>
        <p:spPr>
          <a:xfrm>
            <a:off x="3048120" y="2286000"/>
            <a:ext cx="36716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752480" y="619920"/>
            <a:ext cx="617220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ahoma"/>
              </a:rPr>
              <a:t>form</a:t>
            </a:r>
            <a:r>
              <a:rPr b="1" lang="zh-CN" sz="3600" spc="-1" strike="noStrike">
                <a:solidFill>
                  <a:srgbClr val="ecf53d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ecf53d"/>
                </a:solidFill>
                <a:latin typeface="Times New Roman"/>
              </a:rPr>
              <a:t>        </a:t>
            </a: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vi. &amp; vt.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make </a:t>
            </a:r>
            <a:r>
              <a:rPr b="1" lang="zh-CN" sz="3200" spc="-1" strike="noStrike">
                <a:solidFill>
                  <a:srgbClr val="ecf53d"/>
                </a:solidFill>
                <a:latin typeface="Times New Roman"/>
              </a:rPr>
              <a:t>形成，组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1. I can’t form any idea or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opinion about i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2. Clouds are forming on th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top of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the hil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ahoma"/>
              </a:rPr>
              <a:t>form</a:t>
            </a:r>
            <a:r>
              <a:rPr b="0" lang="zh-CN" sz="3200" spc="-1" strike="noStrike">
                <a:solidFill>
                  <a:srgbClr val="ecf53d"/>
                </a:solidFill>
                <a:latin typeface="Tahoma"/>
              </a:rPr>
              <a:t>   </a:t>
            </a:r>
            <a:r>
              <a:rPr b="1" i="1" lang="zh-CN" sz="3200" spc="-1" strike="noStrike">
                <a:solidFill>
                  <a:srgbClr val="ecf53d"/>
                </a:solidFill>
                <a:latin typeface="Times New Roman"/>
              </a:rPr>
              <a:t>n.</a:t>
            </a:r>
            <a:r>
              <a:rPr b="1" lang="zh-CN" sz="32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in any form</a:t>
            </a:r>
            <a:r>
              <a:rPr b="0" lang="zh-CN" sz="3200" spc="-1" strike="noStrike">
                <a:solidFill>
                  <a:srgbClr val="ecf53d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               </a:t>
            </a: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以任何形式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752480" y="778680"/>
            <a:ext cx="624852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ahoma"/>
              </a:rPr>
              <a:t>call for ; give in</a:t>
            </a: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(Line 7, Para. 1)</a:t>
            </a:r>
            <a:r>
              <a:rPr b="1" lang="zh-CN" sz="2800" spc="-1" strike="noStrike">
                <a:solidFill>
                  <a:srgbClr val="ffff00"/>
                </a:solidFill>
                <a:latin typeface="Tahoma"/>
              </a:rPr>
              <a:t>原句</a:t>
            </a:r>
            <a:r>
              <a:rPr b="1" lang="zh-CN" sz="2800" spc="-1" strike="noStrike">
                <a:solidFill>
                  <a:srgbClr val="ffff00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King called for black peopl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not to give in but to contin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he struggl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447920" y="838080"/>
            <a:ext cx="6254640" cy="54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cf53d"/>
                </a:solidFill>
                <a:latin typeface="Tahoma"/>
              </a:rPr>
              <a:t>call for</a:t>
            </a:r>
            <a:r>
              <a:rPr b="1" lang="zh-CN" sz="4000" spc="-1" strike="noStrike">
                <a:solidFill>
                  <a:srgbClr val="ecf53d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cf53d"/>
                </a:solidFill>
                <a:latin typeface="Times New Roman"/>
              </a:rPr>
              <a:t>                       </a:t>
            </a:r>
            <a:r>
              <a:rPr b="1" lang="zh-CN" sz="2800" spc="-1" strike="noStrike">
                <a:solidFill>
                  <a:srgbClr val="ecf53d"/>
                </a:solidFill>
                <a:latin typeface="Times New Roman"/>
              </a:rPr>
              <a:t>要求；来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1. You passed your test? This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calls for a celebration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2. I will call for you at your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hous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905120" y="762120"/>
            <a:ext cx="5105160" cy="60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ahoma"/>
              </a:rPr>
              <a:t>give in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                  </a:t>
            </a: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屈服；归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1. The rebels were found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o give i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2. He had to give in an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say sorry to Joh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143000" y="497520"/>
            <a:ext cx="6781680" cy="59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cf53d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ecf53d"/>
                </a:solidFill>
                <a:latin typeface="Arial"/>
              </a:rPr>
              <a:t>与 </a:t>
            </a:r>
            <a:r>
              <a:rPr b="1" lang="zh-CN" sz="4000" spc="-1" strike="noStrike">
                <a:solidFill>
                  <a:srgbClr val="ecf53d"/>
                </a:solidFill>
                <a:latin typeface="Tahoma"/>
              </a:rPr>
              <a:t>give </a:t>
            </a:r>
            <a:r>
              <a:rPr b="1" lang="zh-CN" sz="3200" spc="-1" strike="noStrike">
                <a:solidFill>
                  <a:srgbClr val="ecf53d"/>
                </a:solidFill>
                <a:latin typeface="Arial"/>
              </a:rPr>
              <a:t>有关的词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ahoma"/>
              </a:rPr>
              <a:t>give up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     </a:t>
            </a: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abandon the attempt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放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I can do nothing more. I gave up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ahoma"/>
              </a:rPr>
              <a:t>give out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      </a:t>
            </a: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come to the end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到尽头；结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Her patience gave ou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447920" y="838080"/>
            <a:ext cx="6629400" cy="60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ahoma"/>
              </a:rPr>
              <a:t>give off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     </a:t>
            </a: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send out, e.g. smoke, smell etc</a:t>
            </a:r>
            <a:r>
              <a:rPr b="1" lang="zh-CN" sz="3200" spc="-1" strike="noStrike">
                <a:solidFill>
                  <a:srgbClr val="ecf53d"/>
                </a:solidFill>
                <a:latin typeface="Times New Roman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     </a:t>
            </a: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发出烟，气味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He gives off a stink smel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ahoma"/>
              </a:rPr>
              <a:t>give away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      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  </a:t>
            </a: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distribute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分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The mayor gave away the prizes at the sports meet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523880" y="12600"/>
            <a:ext cx="6115320" cy="65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ahoma"/>
              </a:rPr>
              <a:t>give away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     </a:t>
            </a: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2. give freely, not expecting </a:t>
            </a: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	</a:t>
            </a: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	</a:t>
            </a: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 anything in return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赠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He gave away all his mone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    </a:t>
            </a: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3. reveal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泄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His accent gave him away,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made known who or what he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wa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600200" y="840600"/>
            <a:ext cx="6191280" cy="49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ahoma"/>
              </a:rPr>
              <a:t>separate… from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cf53d"/>
                </a:solidFill>
                <a:latin typeface="Times New Roman"/>
              </a:rPr>
              <a:t>(Line 10, Para. 1) 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ecf53d"/>
                </a:solidFill>
                <a:latin typeface="Times New Roman"/>
              </a:rPr>
              <a:t>把… 从…分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原文</a:t>
            </a:r>
            <a:r>
              <a:rPr b="0" lang="zh-CN" sz="3200" spc="-1" strike="noStrike">
                <a:solidFill>
                  <a:srgbClr val="ecf53d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…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the company did not have the right to separate blacks from whites on its bus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219320" y="533520"/>
            <a:ext cx="70866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ahoma"/>
              </a:rPr>
              <a:t>separate… fro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1. The channel separates Englan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from Fran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2. A garden separates this hous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from the nex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ahoma"/>
              </a:rPr>
              <a:t>separate</a:t>
            </a:r>
            <a:r>
              <a:rPr b="0" lang="en-US" sz="3200" spc="-1" strike="noStrike">
                <a:solidFill>
                  <a:srgbClr val="ecf53d"/>
                </a:solidFill>
                <a:latin typeface="Tahoma"/>
              </a:rPr>
              <a:t>   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adj.</a:t>
            </a:r>
            <a:r>
              <a:rPr b="0" lang="en-US" sz="32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ecf53d"/>
                </a:solidFill>
                <a:latin typeface="Tahoma"/>
              </a:rPr>
              <a:t>separation</a:t>
            </a:r>
            <a:r>
              <a:rPr b="0" lang="en-US" sz="32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10560"/>
            <a:ext cx="7097760" cy="52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ahoma"/>
              </a:rPr>
              <a:t>side by side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cf53d"/>
                </a:solidFill>
                <a:latin typeface="Times New Roman"/>
              </a:rPr>
              <a:t>(Sentence 3, Practice 2, Page 40)</a:t>
            </a:r>
            <a:r>
              <a:rPr b="0" lang="zh-CN" sz="2800" spc="-1" strike="noStrike">
                <a:solidFill>
                  <a:srgbClr val="ecf53d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cf53d"/>
                </a:solidFill>
                <a:latin typeface="Tahoma"/>
              </a:rPr>
              <a:t>肩并肩的   原句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I shall never forget the time when blacks and whites were fighting side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by side for the freedom of all rac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218960" y="3505320"/>
            <a:ext cx="7543800" cy="155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Martin Luther King dreamed of a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better world for all Americans—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and worked to make it real withou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any stop.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MLK" descr="Dr. Martin Luther King Jr."/>
          <p:cNvPicPr/>
          <p:nvPr/>
        </p:nvPicPr>
        <p:blipFill>
          <a:blip r:embed="rId1"/>
          <a:stretch/>
        </p:blipFill>
        <p:spPr>
          <a:xfrm>
            <a:off x="3429000" y="838080"/>
            <a:ext cx="273384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295280" y="991080"/>
            <a:ext cx="653904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       </a:t>
            </a: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与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lang="zh-CN" sz="4000" spc="-1" strike="noStrike">
                <a:solidFill>
                  <a:srgbClr val="ecf53d"/>
                </a:solidFill>
                <a:latin typeface="Tahoma"/>
              </a:rPr>
              <a:t>side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有关的词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by the side of </a:t>
            </a:r>
            <a:r>
              <a:rPr b="1" lang="zh-CN" sz="2800" spc="-1" strike="noStrike">
                <a:solidFill>
                  <a:srgbClr val="ecf53d"/>
                </a:solidFill>
                <a:latin typeface="Times New Roman"/>
              </a:rPr>
              <a:t>在…的旁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The girl was standing by the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side of the road.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295280" y="159840"/>
            <a:ext cx="6934320" cy="60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       </a:t>
            </a: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与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lang="zh-CN" sz="4000" spc="-1" strike="noStrike">
                <a:solidFill>
                  <a:srgbClr val="ecf53d"/>
                </a:solidFill>
                <a:latin typeface="Tahoma"/>
              </a:rPr>
              <a:t>side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有关的词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take the side of </a:t>
            </a: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站在某人一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My mother always takes the side of my brother when I argue with hi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take sides with </a:t>
            </a: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和…站在一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cf53d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ecf53d"/>
                </a:solidFill>
                <a:latin typeface="Times New Roman"/>
              </a:rPr>
              <a:t>I will take sides with you forev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859880" cy="14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I have a Dream </a:t>
            </a:r>
            <a:r>
              <a:rPr b="1" lang="zh-CN" sz="2800" spc="-1" strike="noStrike">
                <a:solidFill>
                  <a:srgbClr val="ecf53d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ecf53d"/>
                </a:solidFill>
                <a:latin typeface="Times New Roman"/>
              </a:rPr>
              <a:t>节选</a:t>
            </a:r>
            <a:r>
              <a:rPr b="1" lang="zh-CN" sz="2800" spc="-1" strike="noStrike">
                <a:solidFill>
                  <a:srgbClr val="ecf53d"/>
                </a:solidFill>
                <a:latin typeface="Times New Roman"/>
              </a:rPr>
              <a:t>)</a:t>
            </a:r>
            <a:br>
              <a:rPr sz="4000"/>
            </a:b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              </a:t>
            </a:r>
            <a:r>
              <a:rPr b="1" i="1" lang="zh-CN" sz="3200" spc="-1" strike="noStrike">
                <a:solidFill>
                  <a:srgbClr val="ecf53d"/>
                </a:solidFill>
                <a:latin typeface="Times New Roman"/>
              </a:rPr>
              <a:t>by Martin Luther King, Jr.</a:t>
            </a:r>
            <a:br>
              <a:rPr sz="3200"/>
            </a:b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00" name="127-thumb" descr="Photo"/>
          <p:cNvPicPr/>
          <p:nvPr/>
        </p:nvPicPr>
        <p:blipFill>
          <a:blip r:embed="rId1"/>
          <a:stretch/>
        </p:blipFill>
        <p:spPr>
          <a:xfrm>
            <a:off x="1619280" y="2060640"/>
            <a:ext cx="6053040" cy="38955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684360" y="6094440"/>
            <a:ext cx="50292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3619" fill="hold"/>
                                        <p:tgtEl>
                                          <p:spTgt spid="2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05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     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Vocabulary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437920" y="1371600"/>
            <a:ext cx="4953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creed            </a:t>
            </a: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n.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ecf53d"/>
                </a:solidFill>
                <a:latin typeface="Times New Roman"/>
              </a:rPr>
              <a:t>信念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sweltering   </a:t>
            </a: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adj.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ecf53d"/>
                </a:solidFill>
                <a:latin typeface="Times New Roman"/>
              </a:rPr>
              <a:t>闷热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oasis             </a:t>
            </a: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n.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ecf53d"/>
                </a:solidFill>
                <a:latin typeface="Times New Roman"/>
              </a:rPr>
              <a:t>绿洲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vicious         </a:t>
            </a: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adj.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ecf53d"/>
                </a:solidFill>
                <a:latin typeface="Times New Roman"/>
              </a:rPr>
              <a:t>不道德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interposition   </a:t>
            </a: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n.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ecf53d"/>
                </a:solidFill>
                <a:latin typeface="Times New Roman"/>
              </a:rPr>
              <a:t>调停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nullification    </a:t>
            </a: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n.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ecf53d"/>
                </a:solidFill>
                <a:latin typeface="Times New Roman"/>
              </a:rPr>
              <a:t>废弃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042560" y="1125000"/>
            <a:ext cx="843588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Listening practi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1. Where did the two speakers mee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last tim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A. At the marke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B. At David’s compan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C. At Frank’s compan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1042560" y="1125000"/>
            <a:ext cx="843588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Listening practi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1. Where did the two speakers mee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last tim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A. At the marke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B. At David’s compan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C. At Frank’s compan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900000" y="1557360"/>
            <a:ext cx="77043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ecf53d"/>
                </a:solidFill>
                <a:latin typeface="Times New Roman"/>
              </a:rPr>
              <a:t>2. Why was Mike lat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A. Because he got up lat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B. Because he had a car acciden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C. Because his father was il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900000" y="1557360"/>
            <a:ext cx="77043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ecf53d"/>
                </a:solidFill>
                <a:latin typeface="Times New Roman"/>
              </a:rPr>
              <a:t>2. Why was Mike lat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A. Because he got up lat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B. Because he had a car acciden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C. Because his father was il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756720" y="1628280"/>
            <a:ext cx="815760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ecf53d"/>
                </a:solidFill>
                <a:latin typeface="Times New Roman"/>
              </a:rPr>
              <a:t>3. How do they like the ma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A. They like the man very much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B. They don’t like the man at al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C. They begin to show interest in hi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756720" y="1628280"/>
            <a:ext cx="815760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ecf53d"/>
                </a:solidFill>
                <a:latin typeface="Times New Roman"/>
              </a:rPr>
              <a:t>3. How do they like the ma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A. They like the man very much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B. They don’t like the man at al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C. They begin to show interest in hi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cf53d"/>
                </a:solidFill>
                <a:latin typeface="Times New Roman"/>
              </a:rPr>
              <a:t>Lesson 75    </a:t>
            </a:r>
            <a:r>
              <a:rPr b="1" lang="zh-CN" sz="4800" spc="-1" strike="noStrike">
                <a:solidFill>
                  <a:srgbClr val="ecf53d"/>
                </a:solidFill>
                <a:latin typeface="Times New Roman"/>
              </a:rPr>
              <a:t>Goals </a:t>
            </a:r>
            <a:r>
              <a:rPr b="1" lang="zh-CN" sz="3200" spc="-1" strike="noStrike">
                <a:solidFill>
                  <a:srgbClr val="ecf53d"/>
                </a:solidFill>
                <a:latin typeface="Times New Roman"/>
              </a:rPr>
              <a:t>教学目标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7924680" cy="403884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a.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Getting to know more about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black people’s civil rights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movement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了解更多黑人的争取国内权益运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b.  Useful words &amp; expression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有用的词与表达法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042920" y="285840"/>
            <a:ext cx="7777080" cy="60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ecf53d"/>
                </a:solidFill>
                <a:latin typeface="Times New Roman"/>
              </a:rPr>
              <a:t>4. Why didn’t the man turn to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cf53d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ecf53d"/>
                </a:solidFill>
                <a:latin typeface="Times New Roman"/>
              </a:rPr>
              <a:t>Jacob to  help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f53d"/>
                </a:solidFill>
                <a:latin typeface="Times New Roman"/>
                <a:ea typeface="宋体"/>
              </a:rPr>
              <a:t>   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A. Because he couldn’t trust Jacob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   any long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  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B. Because he hated relying on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   others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all the ti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  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C. Because he didn’t want to let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   Jacob worry about hi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042920" y="285840"/>
            <a:ext cx="7777080" cy="60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ecf53d"/>
                </a:solidFill>
                <a:latin typeface="Times New Roman"/>
              </a:rPr>
              <a:t>4. Why didn’t the man turn to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cf53d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ecf53d"/>
                </a:solidFill>
                <a:latin typeface="Times New Roman"/>
              </a:rPr>
              <a:t>Jacob to  help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f53d"/>
                </a:solidFill>
                <a:latin typeface="Times New Roman"/>
                <a:ea typeface="宋体"/>
              </a:rPr>
              <a:t>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A. Because he couldn’t trus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Jacob any long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  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B. Because he hated relying on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   others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all the ti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  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C. Because he didn’t want to let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   Jacob worry about hi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221480" y="763560"/>
            <a:ext cx="7601040" cy="53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lang="zh-CN" sz="4400" spc="-1" strike="noStrike">
                <a:solidFill>
                  <a:srgbClr val="ecf53d"/>
                </a:solidFill>
                <a:latin typeface="Times New Roman"/>
              </a:rPr>
              <a:t>5. Which bag is easy to dispo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处置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)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  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A. Plastic ba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  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B. Paper ba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  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C. They are the sa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221480" y="763560"/>
            <a:ext cx="7601040" cy="53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lang="zh-CN" sz="4400" spc="-1" strike="noStrike">
                <a:solidFill>
                  <a:srgbClr val="ecf53d"/>
                </a:solidFill>
                <a:latin typeface="Times New Roman"/>
              </a:rPr>
              <a:t>5. Which bag is easy to dispo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处置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)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  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A. Plastic ba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B. Paper ba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  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C. They are the sa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58920" y="475920"/>
            <a:ext cx="7292880" cy="138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53d"/>
                </a:solidFill>
                <a:latin typeface="Times New Roman"/>
              </a:rPr>
              <a:t>Homework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7280" y="1915920"/>
            <a:ext cx="761544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1.  Do Ex.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2,3 on Page 105; Ex.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 on Page 106, Ex. 1&amp;2 on Page 107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 the workboo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. Take the Mini-test on Interne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. * Try to Read “I have a dream”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n Interne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cf53d"/>
                </a:solidFill>
                <a:latin typeface="Times New Roman"/>
              </a:rPr>
              <a:t>Lesson 75    </a:t>
            </a:r>
            <a:r>
              <a:rPr b="1" lang="zh-CN" sz="4800" spc="-1" strike="noStrike">
                <a:solidFill>
                  <a:srgbClr val="ecf53d"/>
                </a:solidFill>
                <a:latin typeface="Times New Roman"/>
              </a:rPr>
              <a:t>Goals </a:t>
            </a:r>
            <a:r>
              <a:rPr b="1" lang="zh-CN" sz="3200" spc="-1" strike="noStrike">
                <a:solidFill>
                  <a:srgbClr val="ecf53d"/>
                </a:solidFill>
                <a:latin typeface="Times New Roman"/>
              </a:rPr>
              <a:t>教学目标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6629400" cy="358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c. Appreciating the famous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speech “I have a dream”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by Martin Luther K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欣赏马丁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·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路德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·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金的著名演讲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 “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我有一个梦想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Warming-up exercis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619280" y="2133720"/>
            <a:ext cx="652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1. Why is the speech “I have a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ream” by Martin Luthe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King so famou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.  Have you ever heard of Rosa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ark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00200" y="53316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Background introduc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99840" y="2209320"/>
            <a:ext cx="2895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Rosa Parks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other of th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ivil Right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ove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" descr="Photo of Ms. Rosa Parks"/>
          <p:cNvPicPr/>
          <p:nvPr/>
        </p:nvPicPr>
        <p:blipFill>
          <a:blip r:embed="rId1"/>
          <a:stretch/>
        </p:blipFill>
        <p:spPr>
          <a:xfrm>
            <a:off x="4495680" y="2057400"/>
            <a:ext cx="3048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Background introduc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47560" y="1371240"/>
            <a:ext cx="43210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rs. Rosa Parks, bor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on February 4, 1913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has been called t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"mother of the civ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ights movement" 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one of the m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mportant citizens o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e 2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Times New Roman"/>
              </a:rPr>
              <a:t>th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century.</a:t>
            </a:r>
            <a:r>
              <a:rPr b="1" lang="en-US" sz="3200" spc="-1" strike="noStrike">
                <a:solidFill>
                  <a:srgbClr val="ecf53d"/>
                </a:solidFill>
                <a:latin typeface="Times New Roman"/>
              </a:rPr>
              <a:t> </a:t>
            </a:r>
            <a:br>
              <a:rPr sz="3200"/>
            </a:br>
            <a:br>
              <a:rPr sz="24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" descr="Photo of Ms. Rosa Parks"/>
          <p:cNvPicPr/>
          <p:nvPr/>
        </p:nvPicPr>
        <p:blipFill>
          <a:blip r:embed="rId1"/>
          <a:stretch/>
        </p:blipFill>
        <p:spPr>
          <a:xfrm>
            <a:off x="5562720" y="1752480"/>
            <a:ext cx="28051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295280" y="3809520"/>
            <a:ext cx="693432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192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Rosa Parks, an African American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192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refused to give up her seat in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192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White’s section of a city bu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19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refore she was arrested.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057400" y="762120"/>
            <a:ext cx="502920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02:42:50Z</dcterms:created>
  <dc:creator>any</dc:creator>
  <dc:description/>
  <dc:language>en-US</dc:language>
  <cp:lastModifiedBy>Zhang Lingdi</cp:lastModifiedBy>
  <dcterms:modified xsi:type="dcterms:W3CDTF">2003-06-10T14:41:16Z</dcterms:modified>
  <cp:revision>102</cp:revision>
  <dc:subject/>
  <dc:title>Unit 19 A freedom fighter (continued)</dc:title>
</cp:coreProperties>
</file>